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23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media/image9.png" ContentType="image/png"/>
  <Override PartName="/ppt/media/image31.gif" ContentType="image/gif"/>
  <Override PartName="/ppt/media/image13.gif" ContentType="image/gif"/>
  <Override PartName="/ppt/media/image30.jpeg" ContentType="image/jpeg"/>
  <Override PartName="/ppt/media/image15.png" ContentType="image/png"/>
  <Override PartName="/ppt/media/image32.jpeg" ContentType="image/jpeg"/>
  <Override PartName="/ppt/media/image26.jpeg" ContentType="image/jpeg"/>
  <Override PartName="/ppt/media/image33.wmf" ContentType="image/x-wmf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7.jpeg" ContentType="image/jpeg"/>
  <Override PartName="/ppt/media/image17.gif" ContentType="image/gif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18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19F-86CF-491F-8BD1-7403395E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FBB-01CE-4468-AB6A-86BAD3BE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A3F-0898-4F40-BEBE-DDEE7583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A07-8EFD-4C64-99BC-608FDEA0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4FBE-B859-402F-827D-217D8ED3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DDC7-ABFD-4F97-B1CC-01EC569E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984F-CF3B-45DE-8872-FF59F03C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5241-EBA3-497C-83F9-349FDEEE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CE8E-5D8D-4D92-9FAE-C3D78D79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6EA8-E966-48FA-BF18-927204D4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0AE8-8981-4F40-8F9F-4803C69E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BD5-D692-4339-99E2-92D44190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719A-8830-4DF6-9117-A54638F0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5983-D4B1-45DA-8F6D-6DE155A0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67A0-C641-44F8-B60B-764FBE88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CEF2-FD4B-43AF-8B58-34E0AF56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B70A-1B9E-4C95-8FF2-FF3709D8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E51-8142-452D-98E5-6CC49593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60E-BA96-4C33-8BF2-829224D0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821-444C-4137-8EC7-04FB611D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26A7-6DA1-4995-B04C-8673B9AE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B39-8E18-4910-A501-264EE6A6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435-3F08-4DF5-AEFC-1E1A92DC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EC9E-00E4-4C97-9503-9394E2E6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BA3E-B56E-4CBE-999A-A3DD50671A9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A0A1-C844-44EC-9FEF-F177B0206E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B582-AE08-4882-98AC-2E7C738F277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15BE-A12A-456E-8D29-3BB7C70C5C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26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2514600"/>
            <a:ext cx="6705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Arial Black"/>
              </a:rPr>
              <a:t>Викторина </a:t>
            </a:r>
            <a:br>
              <a:rPr sz="7200"/>
            </a:br>
            <a:r>
              <a:rPr b="1" lang="en-US" sz="7200" spc="-1" strike="noStrike">
                <a:solidFill>
                  <a:srgbClr val="006600"/>
                </a:solidFill>
                <a:latin typeface="Arial Black"/>
              </a:rPr>
              <a:t>по ПДД</a:t>
            </a:r>
            <a:endParaRPr b="0" lang="en-US" sz="7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ОБЖ, 8 класс, тема 2, урок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56386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Андреева Н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г. Ачи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533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Участник дорожного движения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1523880"/>
            <a:ext cx="43434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Лицо, принимающее непосредственное участие в процессе движения в качестве водителя, пешехода, пассажира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Лицо, принимающее непосредственное участие в процессе движения в качестве водителя, пассажира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одители, пешеходы, дорожные раб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57578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 rot="21036000">
            <a:off x="838080" y="1523520"/>
            <a:ext cx="2119320" cy="215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14400" y="2286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Разрешена ли буксировка велосипеда другим велосипедом и мопедом?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362320"/>
            <a:ext cx="6095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е разреш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зрешена, но только велосипеда велосипед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зрешена, но только по велосипедной дорож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 rot="20967000">
            <a:off x="1074240" y="3147840"/>
            <a:ext cx="2125800" cy="2314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Что в сочетании из греческого и русского слов означает «светофор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3124080"/>
            <a:ext cx="449568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Красный, желтый, зелены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Сверкающие огн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Носитель св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172692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38080" y="22860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В марте 1730 г. императрица Анна Иоанновна подписала указ, по которому лихачей надлежало задерживать, кучеров в наказание сечь розгами. Какие меры наказания в начале XVIII века применялись к людям, нарушающим правила движения:</a:t>
            </a:r>
            <a:r>
              <a:rPr b="0" lang="en-US" sz="24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3733920"/>
            <a:ext cx="4419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Секли розг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Штраф, изъятие водительского удостовер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адержание, штраф, розги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4038480" y="3610080"/>
            <a:ext cx="396252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5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95121 -0.20255 L -0.47569 -0.20255 C -0.26267 -0.20255 -3.61111E-006 -0.14723 -3.61111E-006 -0.10139 L -3.61111E-006 2.96296E-006 E">
                                      <p:cBhvr>
                                        <p:cTn id="509" dur="7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228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му должны подчиняться водители и пешеходы, если сигналы регулировщика противоречат сигналам светофора: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2514600"/>
            <a:ext cx="457200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Сигналам светоф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Сигналам регулировщ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Действовать по своему усмотрению.</a:t>
            </a: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166068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0880" y="762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то проедет перв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4572000"/>
            <a:ext cx="41148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Мотоцик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1066680" y="1905120"/>
            <a:ext cx="3810240" cy="230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762120" y="228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Кому из пешеходов не запрещено переходить доро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4267080"/>
            <a:ext cx="68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85800" y="1905120"/>
            <a:ext cx="7696080" cy="2195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315200" y="4191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42670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4340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583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144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С каким из дорожных знаков применяется следующая разме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                    2                    3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image050" descr=""/>
          <p:cNvPicPr/>
          <p:nvPr/>
        </p:nvPicPr>
        <p:blipFill>
          <a:blip r:embed="rId3"/>
          <a:stretch/>
        </p:blipFill>
        <p:spPr>
          <a:xfrm>
            <a:off x="6324480" y="44956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990720" y="4648320"/>
            <a:ext cx="1143000" cy="9745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2133720" y="1371600"/>
            <a:ext cx="4876560" cy="2862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2743200" y="45720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4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71600" y="304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Этот дорожный знак показывает, что впе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4419720"/>
            <a:ext cx="556236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вижение возможно только пря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переди дорога с односторонним дви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514600" y="1447920"/>
            <a:ext cx="3505320" cy="2703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-22860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му разрешено дви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876920"/>
            <a:ext cx="4952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ям и велосипед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исту и пеш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ям и пеш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09680" y="1371600"/>
            <a:ext cx="4648320" cy="2878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50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9092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2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3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4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5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6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7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8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9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0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1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2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3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4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5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6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7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8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5308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62120" y="457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Водитель велосипе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4572000"/>
            <a:ext cx="6095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олжен уступить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Имеет преимущественное право на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2209680" y="1600200"/>
            <a:ext cx="4191120" cy="251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228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Что называется тормозным путем?</a:t>
            </a:r>
            <a:r>
              <a:rPr b="1" lang="en-US" sz="2400" spc="-1" strike="noStrike">
                <a:solidFill>
                  <a:srgbClr val="3fdde1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2362320"/>
            <a:ext cx="75438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сстояние, пройденное автомобилем с момента обнаружения водителем опасности до полной остан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сстояние, пройденное автомобилем с момента нажатия водителем педали тормоза до полной о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Тормозной след от шин автомоби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Untitled-1"/>
          <p:cNvPicPr/>
          <p:nvPr/>
        </p:nvPicPr>
        <p:blipFill>
          <a:blip r:embed="rId3"/>
          <a:stretch/>
        </p:blipFill>
        <p:spPr>
          <a:xfrm rot="21004800">
            <a:off x="914040" y="838080"/>
            <a:ext cx="1104840" cy="112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wheel spokes="3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500"/>
                            </p:stCondLst>
                            <p:childTnLst>
                              <p:par>
                                <p:cTn id="7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28600" y="228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В какой последовательности транспортные средства проедут перекрес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76520" y="4572000"/>
            <a:ext cx="541008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, автомобиль, мото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Мотоцикл, автомобиль, велосип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ь, мотоцикл, велоси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4496040" cy="2778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57200" y="228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гда велосипедистам разрешено двигаться по двое в одном ря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1600200"/>
            <a:ext cx="518148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ик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Когда в группе едет 10 велосипе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Когда в группе 25 велосипе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33526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0880" y="228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Разрешается ли перевозить ребенка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1219320"/>
            <a:ext cx="556272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Только до 7 лет на специально оборудованном сид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Да, на багажнике велосип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C12-12"/>
          <p:cNvPicPr/>
          <p:nvPr/>
        </p:nvPicPr>
        <p:blipFill>
          <a:blip r:embed="rId3"/>
          <a:stretch/>
        </p:blipFill>
        <p:spPr>
          <a:xfrm>
            <a:off x="4800600" y="3809880"/>
            <a:ext cx="3124080" cy="2330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500"/>
                            </p:stCondLst>
                            <p:childTnLst>
                              <p:par>
                                <p:cTn id="8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-45720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К транспортным средствам общего пользования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676520"/>
            <a:ext cx="5181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Трамваи и троллейб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бусы и маршрутное так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бусы, троллейбусы, трамваи, движущиеся по установленным маршру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-2438280" y="3886200"/>
            <a:ext cx="2185920" cy="2195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03 -0.01666 L -0.12534 0.0044 L -0.04913 -0.01666 L 0.03351 0.0044 L 0.11615 -0.01666 L 0.19323 0.0044 L 0.2757 -0.01666 L 0.35382 0.0044 L 0.43594 -0.01666 L 0.51858 0.0044 L 0.59653 -0.01666 L 0.67917 0.0044 L 0.75625 -0.01666 L 0.83889 0.0044 L 0.92153 -0.01666 L 0.99931 0.0044 L 1.08229 -0.01666 E">
                                      <p:cBhvr>
                                        <p:cTn id="851" dur="7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66680" y="2057400"/>
            <a:ext cx="7162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У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Вы – счастливчик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Получите приз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1540080" cy="224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3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66680" y="5335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Имеет ли право водитель велосипеда проезжать под этот зн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78720" y="3113280"/>
            <a:ext cx="28616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spcBef>
                <a:spcPts val="375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Имеет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Не имеет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image061" descr=""/>
          <p:cNvPicPr/>
          <p:nvPr/>
        </p:nvPicPr>
        <p:blipFill>
          <a:blip r:embed="rId3"/>
          <a:stretch/>
        </p:blipFill>
        <p:spPr>
          <a:xfrm>
            <a:off x="1600200" y="2895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14400" y="228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акими буквами обозначены знаки, запрещающие движение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5800" y="2870280"/>
            <a:ext cx="13222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 и 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Б и 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, Б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990720" y="2819520"/>
          <a:ext cx="9428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819520"/>
                    <a:ext cx="9428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0" y="37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 flipH="1">
            <a:off x="2514600" y="3103560"/>
            <a:ext cx="990720" cy="973080"/>
          </a:xfrm>
          <a:prstGeom prst="rect">
            <a:avLst/>
          </a:prstGeom>
          <a:ln w="0">
            <a:noFill/>
          </a:ln>
        </p:spPr>
      </p:pic>
      <p:pic>
        <p:nvPicPr>
          <p:cNvPr id="263" name="image061" descr=""/>
          <p:cNvPicPr/>
          <p:nvPr/>
        </p:nvPicPr>
        <p:blipFill>
          <a:blip r:embed="rId6"/>
          <a:stretch/>
        </p:blipFill>
        <p:spPr>
          <a:xfrm>
            <a:off x="4191120" y="30481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845440" y="4342680"/>
            <a:ext cx="3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 Black"/>
              </a:rPr>
              <a:t>Б</a:t>
            </a: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14760" y="432828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36240" y="4328280"/>
            <a:ext cx="4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38080" y="1522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ак поступить велосипедисту, если перед перекрестком установлен этот знак?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050" descr=""/>
          <p:cNvPicPr/>
          <p:nvPr/>
        </p:nvPicPr>
        <p:blipFill>
          <a:blip r:embed="rId3"/>
          <a:stretch/>
        </p:blipFill>
        <p:spPr>
          <a:xfrm>
            <a:off x="1066680" y="259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505320" y="1603440"/>
            <a:ext cx="4572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сли нет машин, проехать перекресток без о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При проезде перекрестка быть особенно внима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Остановиться у стоп-линии, а если ее нет – перед краем пересекаемой проезжей части, и уступить дорогу транспортным средствам, движущимся по пересекаемой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533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Какой знак называется «Пешеходная дорожка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3809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dde1"/>
                </a:solidFill>
                <a:latin typeface="Arial Black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1                2               3 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66680" y="2286000"/>
          <a:ext cx="109224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286000"/>
                    <a:ext cx="109224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0" y="381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819520" y="2514600"/>
          <a:ext cx="969840" cy="108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2514600"/>
                    <a:ext cx="9698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37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648320" y="2514600"/>
          <a:ext cx="996840" cy="10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514600"/>
                    <a:ext cx="9968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100" descr=""/>
          <p:cNvPicPr/>
          <p:nvPr/>
        </p:nvPicPr>
        <p:blipFill>
          <a:blip r:embed="rId9"/>
          <a:stretch/>
        </p:blipFill>
        <p:spPr>
          <a:xfrm>
            <a:off x="6400800" y="2438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ак безопаснее поступить водителю мопеда, если на перекрестке установлен этот знак?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age046" descr=""/>
          <p:cNvPicPr/>
          <p:nvPr/>
        </p:nvPicPr>
        <p:blipFill>
          <a:blip r:embed="rId3"/>
          <a:stretch/>
        </p:blipFill>
        <p:spPr>
          <a:xfrm>
            <a:off x="990720" y="2514600"/>
            <a:ext cx="1981080" cy="1690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809880" y="1798920"/>
            <a:ext cx="4267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Уступить дорогу транспортным средствам, движущимся по пересекаемой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Продолжить движение, не уступая дор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Проехать перекресток с соблюдением мер предосторож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457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Где должны пересекать проезжую часть пешеходы: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2133720"/>
            <a:ext cx="46483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 любом мес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По пешеходным переходам (надземным или подземным), а при их отсутствии - на перекрестках по линии тротуаров или обоч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 любом месте, если нет движущихся транспортных средств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-933480" y="4267080"/>
            <a:ext cx="93348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0645E-007 L 1.11771 0.00555 E">
                                      <p:cBhvr>
                                        <p:cTn id="334" dur="5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228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Под какой из знаков водитель мопеда не имеет права проезж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80060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нак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нак «Б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Оба зн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061" descr=""/>
          <p:cNvPicPr/>
          <p:nvPr/>
        </p:nvPicPr>
        <p:blipFill>
          <a:blip r:embed="rId3"/>
          <a:stretch/>
        </p:blipFill>
        <p:spPr>
          <a:xfrm>
            <a:off x="16002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99" name="image057" descr=""/>
          <p:cNvPicPr/>
          <p:nvPr/>
        </p:nvPicPr>
        <p:blipFill>
          <a:blip r:embed="rId4"/>
          <a:stretch/>
        </p:blipFill>
        <p:spPr>
          <a:xfrm>
            <a:off x="5410080" y="1981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390060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380916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А                                             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0"/>
                            </p:stCondLst>
                            <p:childTnLst>
                              <p:par>
                                <p:cTn id="3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100"/>
                            </p:stCondLst>
                            <p:childTnLst>
                              <p:par>
                                <p:cTn id="3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5-09-16T17:15:15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